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118-AA6C-4047-94E9-B992961D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435-7FA5-4229-AB24-A8748ED5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9D7-ABBC-4D42-BE90-D0F49128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127A-4538-4A79-BA91-A8C6CB8A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09A5-86E2-438E-944F-E62E521D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4B96-9045-4DA9-8B06-0AEEF79A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694C-2462-44B1-9A95-AD340E4D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4F40-7D12-47BB-97F3-0E94EECA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7443-7380-4357-9CF6-CF5E549A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DC10-DAFB-43D3-8503-920BA39C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FC17-F286-467D-A49A-38FCD119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E9E9-485E-4BA9-A45A-BA6A4449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49C2-A897-46AA-BE64-CB641786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057C-8EB0-4B76-9A31-B1735D46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1344-9A31-4FAD-BC6D-6050FE95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5C69-740F-4ACB-850D-255C22FC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87A8-7652-4328-BF0C-FC43CEE4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54C-6B3B-4B9B-AD7A-0565486E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1C2A-F737-4997-95BC-A6E28538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9164-0578-4E7B-90FE-0E8BFBB3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652-DA0E-4EFB-AF68-68E5040F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346-B70D-4E3C-BBC7-C6473465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37D-DE97-41AD-B631-B3FB8678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9EB-3E7C-4D53-8420-37FF30B2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CC66-E619-4A2B-8EFE-6F148D402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6871-9951-4466-9D19-590F6B48F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ucop.edu/irc/announce/tip_attach_email.html" TargetMode="External"/><Relationship Id="rId2" Type="http://schemas.openxmlformats.org/officeDocument/2006/relationships/hyperlink" Target="http://www.figmedia.com/forums/showthread.php?t=2" TargetMode="External"/><Relationship Id="rId3" Type="http://schemas.openxmlformats.org/officeDocument/2006/relationships/hyperlink" Target="http://www.aweber.com/faq/questions/529/What+Should+I+Be+Concerned+With+When+Designing+HTML+Email%3F" TargetMode="External"/><Relationship Id="rId4" Type="http://schemas.openxmlformats.org/officeDocument/2006/relationships/hyperlink" Target="http://www.moove.com/" TargetMode="External"/><Relationship Id="rId5" Type="http://schemas.openxmlformats.org/officeDocument/2006/relationships/hyperlink" Target="http://www.maximumpc.com/article/news/dell_announces_os_x_emulator_and_video_chat_its_studio_laptops" TargetMode="External"/><Relationship Id="rId6" Type="http://schemas.openxmlformats.org/officeDocument/2006/relationships/hyperlink" Target="http://www.pctvhifi.co.uk/" TargetMode="External"/><Relationship Id="rId7" Type="http://schemas.openxmlformats.org/officeDocument/2006/relationships/hyperlink" Target="http://www.gizbuy.com/" TargetMode="External"/><Relationship Id="rId8" Type="http://schemas.openxmlformats.org/officeDocument/2006/relationships/hyperlink" Target="http://www.earningguys.com/blogging/before-starting-new-blog/" TargetMode="External"/><Relationship Id="rId9" Type="http://schemas.openxmlformats.org/officeDocument/2006/relationships/hyperlink" Target="http://blog.socrata.com/category/data/" TargetMode="External"/><Relationship Id="rId10" Type="http://schemas.openxmlformats.org/officeDocument/2006/relationships/hyperlink" Target="http://www.keloland.com/custompages/kelolandblogs/" TargetMode="External"/><Relationship Id="rId11" Type="http://schemas.openxmlformats.org/officeDocument/2006/relationships/hyperlink" Target="http://boards.espn.go.com/boards/mb/mb" TargetMode="External"/><Relationship Id="rId12" Type="http://schemas.openxmlformats.org/officeDocument/2006/relationships/hyperlink" Target="http://www.drphil.com/messageboard/" TargetMode="External"/><Relationship Id="rId13" Type="http://schemas.openxmlformats.org/officeDocument/2006/relationships/hyperlink" Target="http://www.knowledgeboard.com/item/3073" TargetMode="External"/><Relationship Id="rId14" Type="http://schemas.openxmlformats.org/officeDocument/2006/relationships/hyperlink" Target="http://evan.prodromou.name/Journal/15_Germinal_CCXV" TargetMode="External"/><Relationship Id="rId15" Type="http://schemas.openxmlformats.org/officeDocument/2006/relationships/hyperlink" Target="http://blog.delaranja.com/what-is-a-wiki/" TargetMode="External"/><Relationship Id="rId16" Type="http://schemas.openxmlformats.org/officeDocument/2006/relationships/hyperlink" Target="https://lwiese.wikispaces.com/" TargetMode="External"/><Relationship Id="rId17" Type="http://schemas.openxmlformats.org/officeDocument/2006/relationships/hyperlink" Target="http://www.itcboisestate.wordpress.com/" TargetMode="External"/><Relationship Id="rId18" Type="http://schemas.openxmlformats.org/officeDocument/2006/relationships/hyperlink" Target="http://blogoscoped.com/archive/2007-10-26-n63.html" TargetMode="External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Electronic Communication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hat are different ways you communicate with others through electronic devices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Wiki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website that allows multiple users to add, change, or modify cont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kipedia, Wikispace, there are many educational Wik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486400" y="457200"/>
            <a:ext cx="3051000" cy="1943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371600" y="4191120"/>
            <a:ext cx="1589040" cy="1942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rcRect l="0" t="17446" r="0" b="4057"/>
          <a:stretch/>
        </p:blipFill>
        <p:spPr>
          <a:xfrm>
            <a:off x="4495680" y="4114800"/>
            <a:ext cx="3276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Wiki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vantages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se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of work/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 in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of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ne to 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ity of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ot know who is posting to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62720" y="380880"/>
            <a:ext cx="308592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PodCast/VideoCast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dio broadcast (which may include video) available on computer and other electronic de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Tube, iTunes, Zune, many educational podcast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00200" y="4267080"/>
            <a:ext cx="2849400" cy="1895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10080" y="4191120"/>
            <a:ext cx="2934000" cy="2019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934320" y="533520"/>
            <a:ext cx="16761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PodCast/VideoCast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vantage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graphy doesn’t make a dif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y on top of tr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to get a hold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be inappropri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print to go with podc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of value or people will not listen/w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010280" y="380880"/>
            <a:ext cx="17240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Social Networking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sites that allow users to build an on-line profile and share with other peo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ySpace, FaceBook, Twi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533520"/>
            <a:ext cx="1967040" cy="1400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772400" y="609480"/>
            <a:ext cx="1036800" cy="1295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752480" y="4038480"/>
            <a:ext cx="3038760" cy="2122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181480" y="4038480"/>
            <a:ext cx="25146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Social Networking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ep in touch with many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graphy doesn’t make a dif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mediate feed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may talk to individuals or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ety of media (chat, e-mail, video cast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may forward what you have on the 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yberbully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t too much personal info on 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867280" y="533520"/>
            <a:ext cx="1967040" cy="1400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772400" y="609480"/>
            <a:ext cx="10368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ypes of Electronic Devic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ell Phone/Smart Pho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uter/Lapto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Pod/MP3 Play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Pa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intendo DS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aming Systems (Xbox, Wii, PS3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V (hook to internet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ypes Of User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e to o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e to fe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e to Man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ew to Few (under 5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ny to Many (Over 5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icture Credit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http://www.ucop.edu/irc/announce/tip_attach_email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http://www.figmedia.com/forums/showthread.php?t=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http://www.aweber.com/faq/questions/529/What+Should+I+Be+Concerned+With+When+Designing+HTML+Email%3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www.moove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5"/>
              </a:rPr>
              <a:t>http://www.maximumpc.com/article/news/dell_announces_os_x_emulator_and_video_chat_its_studio_lapto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6"/>
              </a:rPr>
              <a:t>www.pctvhifi.co.uk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7"/>
              </a:rPr>
              <a:t>www.gizbuy.com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8"/>
              </a:rPr>
              <a:t>http://www.earningguys.com/blogging/before-starting-new-blog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9"/>
              </a:rPr>
              <a:t>http://blog.socrata.com/category/data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10"/>
              </a:rPr>
              <a:t>http://www.keloland.com/custompages/kelolandblogs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11"/>
              </a:rPr>
              <a:t>http://boards.espn.go.com/boards/mb/m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12"/>
              </a:rPr>
              <a:t>http://www.drphil.com/messageboard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13"/>
              </a:rPr>
              <a:t>http://www.knowledgeboard.com/item/307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14"/>
              </a:rPr>
              <a:t>http://evan.prodromou.name/Journal/15_Germinal_CCX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15"/>
              </a:rPr>
              <a:t>http://blog.delaranja.com/what-is-a-wik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16"/>
              </a:rPr>
              <a:t>https://lwiese.wikispaces.com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17"/>
              </a:rPr>
              <a:t>www.itcboisestate.wordpress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18"/>
              </a:rPr>
              <a:t>http://blogoscoped.com/archive/2007-10-26-n63.html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digitaltrends.com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goomedic.com/medical-informatics-related-forums-community-and-social-networks.htm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mashable.com/2009/04/02/facebook-personal-brand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news.cnet.com/8301-13515_3-10184897-26.htm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mobilerevolutions.org/archives/29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e-Mai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ethod of exchanging electronic messages or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s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 e-mail, google e-mail, e-mail on face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81480" y="4267080"/>
            <a:ext cx="2490840" cy="1943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62320" y="4267080"/>
            <a:ext cx="2133360" cy="2059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781680" y="380880"/>
            <a:ext cx="1717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e-Mai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dvant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graphy doesn’t make a dif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i-priv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can forward and print your e-m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sage could taken the wrong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yberbully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erson may send message using another person’s e-mail add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483240" y="304920"/>
            <a:ext cx="2089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267080" y="4419720"/>
            <a:ext cx="2867040" cy="1600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Ch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 online talking with a group of peo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box Live; Yahoo messenger, MSN, many games have chat o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5880" y="380880"/>
            <a:ext cx="2152800" cy="1943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066680" y="4648320"/>
            <a:ext cx="1798920" cy="1322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858000" y="4267080"/>
            <a:ext cx="177156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Ch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y doesn’t make a 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chat with more than one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hats have a way to invite people into cha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berbul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could be taken the wrong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ly dangerous if chat is open to any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talk back and forth but not pass actual documents back and fo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24480" y="304920"/>
            <a:ext cx="224820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Blogs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-line journal or diary.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ries in reverse chronological or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lo-land news blogs, political blog, blog on Facebook, ESPN sports blog, many websites may have a blog li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Post Pic"/>
          <p:cNvPicPr/>
          <p:nvPr/>
        </p:nvPicPr>
        <p:blipFill>
          <a:blip r:embed="rId1"/>
          <a:stretch/>
        </p:blipFill>
        <p:spPr>
          <a:xfrm>
            <a:off x="5638680" y="457200"/>
            <a:ext cx="3132360" cy="1943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white_house_blog_medium"/>
          <p:cNvPicPr/>
          <p:nvPr/>
        </p:nvPicPr>
        <p:blipFill>
          <a:blip r:embed="rId2"/>
          <a:stretch/>
        </p:blipFill>
        <p:spPr>
          <a:xfrm>
            <a:off x="5181480" y="4343400"/>
            <a:ext cx="268632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9436" t="16512" r="20755" b="5652"/>
          <a:stretch/>
        </p:blipFill>
        <p:spPr>
          <a:xfrm>
            <a:off x="1295280" y="4343400"/>
            <a:ext cx="2819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Blogs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dvantage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 your thought with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ryone can r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s user to reflect on material w/o having to give immediate feed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er may be able to leave comments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keep is time consu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rial may be bias (people’s opin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dif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idity of information pos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Post Pic"/>
          <p:cNvPicPr/>
          <p:nvPr/>
        </p:nvPicPr>
        <p:blipFill>
          <a:blip r:embed="rId1"/>
          <a:stretch/>
        </p:blipFill>
        <p:spPr>
          <a:xfrm>
            <a:off x="5867280" y="457200"/>
            <a:ext cx="27054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Discussion Boar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ine discussion area focused on a specific topic with one person having final control of what is pos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website has discussion board area (Dr. Phil, ESPN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31053" r="36364" b="0"/>
          <a:stretch/>
        </p:blipFill>
        <p:spPr>
          <a:xfrm>
            <a:off x="5791320" y="4191120"/>
            <a:ext cx="2428920" cy="1942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428920" cy="1942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705720" y="3808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Discussion Boar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monitored and modified by 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of tho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with many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ites collabo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user to reflect on material w/o having to give immediate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may be bias to persons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one ma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ity of information po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20:37:38Z</dcterms:created>
  <dc:creator>wiesel</dc:creator>
  <dc:description/>
  <dc:language>en-US</dc:language>
  <cp:lastModifiedBy>wiesel</cp:lastModifiedBy>
  <dcterms:modified xsi:type="dcterms:W3CDTF">2010-10-04T16:22:47Z</dcterms:modified>
  <cp:revision>32</cp:revision>
  <dc:subject/>
  <dc:title>Slide 1</dc:title>
</cp:coreProperties>
</file>